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E89-F7BE-4473-A399-44D4D84C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6A7-199C-495E-8A78-702FF7B0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6D2-D690-4683-A163-8D977D8D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FDD-9A87-4D25-B2D9-63C73528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632-25ED-42C2-BE51-2F32F450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E7B-7311-4244-9D7F-871422B8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475-155D-4E94-804E-E6DA295F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6BC-074C-4D11-B293-438EE3F0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BB1-C413-4FE0-977D-5D6B193F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53D-F667-4861-AD1A-342A1A4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854-B394-43A7-8C93-0F09F71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48E-9D4D-49E6-8B72-0F4F631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62CD-92EF-4787-88A5-E004A4873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1011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09280" y="149400"/>
            <a:ext cx="9411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ركي يا نفسي الربَّ ولا تنسَي كل حسنات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، باركي يا نفسي الر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، بارك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09720" y="2313000"/>
            <a:ext cx="576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ذي يغفر كلّ آثام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ذي يشفي جميع   أمراض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يُنَجّي من الحفرة حيات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الرحمة دوماً يكلّلُ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95720" y="5940360"/>
            <a:ext cx="13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ذي يُشبعُ بالخيرِ عمرَكِ فيجدَِّد كالنَّسرِ شباب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ذي يملأُ احتياجاتك باركي ربّك يا نفسي باركي  باركي يا نفسي ال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9:33Z</dcterms:created>
  <dc:creator>USER</dc:creator>
  <dc:description/>
  <dc:language>en-US</dc:language>
  <cp:lastModifiedBy>USER</cp:lastModifiedBy>
  <dcterms:modified xsi:type="dcterms:W3CDTF">2002-10-30T15:43:48Z</dcterms:modified>
  <cp:revision>1</cp:revision>
  <dc:subject/>
  <dc:title>PowerPoint Presentation</dc:title>
</cp:coreProperties>
</file>